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2CA-22BB-48B8-8A4D-70C0C34B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230-5FC1-44C6-822B-5C189638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B3E-8FAA-4810-80A6-671468D5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EA2-7941-4CE6-B36B-E6B937CE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E99-B952-4D34-AC08-130D11F1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C44-FA55-4F29-B3A3-6A09539E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CE4-F41A-4BEF-87F6-601534BB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9B6-8998-480A-9050-292817AC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3A9-1661-4637-B450-85F2997D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E7C-41ED-40A4-96CB-6B9CA87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FDA-F477-4887-8C24-9F83F47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426-7E65-43EC-8CFA-D84E43D6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4AA1-1713-494D-B884-8BBB61A5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51:36Z</dcterms:created>
  <dc:creator>Grupo Editorial</dc:creator>
  <dc:description/>
  <dc:language>en-US</dc:language>
  <cp:lastModifiedBy>Grupo Editorial</cp:lastModifiedBy>
  <dcterms:modified xsi:type="dcterms:W3CDTF">2001-11-13T10:54:16Z</dcterms:modified>
  <cp:revision>1</cp:revision>
  <dc:subject/>
  <dc:title>Sin título de diapositiva</dc:title>
</cp:coreProperties>
</file>